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F2B8-A5FF-483D-8FD7-2F4578B1F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aluren is a drug that is being tested for use on patients with nonsense mutation-causing genetic disorders such as some types of cystic fibrosis and some types of hemophil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fferent mutations in CFTR gene that cause cystic fibrosi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1C17-F60A-4FD5-81F1-257A6D06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DE28-DE49-4F57-A571-A29AEFB7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12C-D650-4A22-98A0-B014295A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926-5265-4307-A1A6-83B5737F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ADBD-43A2-4A1E-9AA5-6632515B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A5B-9824-4AFC-9B68-48B5041F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735C-255F-4C56-8CAF-501E9480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5F18-A552-4176-9F6E-C960B5D1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E451-1EF5-4750-BD78-92E85E7B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8F0-A56D-4898-ABED-CB3A05F0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7EBC-6AA2-4FD8-89D9-FAD8DE5B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0150-D8ED-4BB8-8C93-C3E86105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6D23-FFDA-46E9-9E17-BCC69C385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icharddawkins.net/articles/2669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all mutations are sil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sense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 in the alteration of a codon, causing the substitution of an amino acid (e.g., sickle cell anem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sense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 in the alteration of a codon to a stop codon, causing translation to produce only part of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ense mut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avonapbio.pbworks.com/w/page/9429271/Ch-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04960" y="1981080"/>
            <a:ext cx="7532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sense Mut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ptcbio.com/3.1.1_genetic_disorders.asp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81040" y="1981080"/>
            <a:ext cx="6181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and Disorder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cancer.gov/cancertopics/understandingcancer/genetesting/page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44640" y="1981080"/>
            <a:ext cx="545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and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rticle about Lenski’s experiments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icharddawkins.net/articles/26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hanges in DNA sequence that are inher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DNA can be spontaneous or induc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ntaneous mu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caused by errors in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ced mut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aus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agenic ag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as UV radiation,  X rays, certain chemical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 changes in a single base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includ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e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itu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ase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shift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mutations (such as deletions, insertions) that cause a change in the reading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71480" y="649440"/>
            <a:ext cx="58723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Mut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r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reversal of a segment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o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transfer of a fragment of DNA to another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posable 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fragments of DNA that are constantly being translo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oc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psychology.wikia.com/wiki/Chromosomal_transloc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28880" y="1981080"/>
            <a:ext cx="52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ghr.nlm.nih.gov/handbook/illustrations/inver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5440" y="1981080"/>
            <a:ext cx="381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no effect (because they do not change amino acids coded f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occur in non-coding regions (intr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cy of genetic code also allows for some mutations to have no effect (i.e.  a point mutation of third base in cod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0:55:40Z</dcterms:created>
  <dc:creator>rubina khan</dc:creator>
  <dc:description/>
  <dc:language>en-US</dc:language>
  <cp:lastModifiedBy>rubina khan</cp:lastModifiedBy>
  <dcterms:modified xsi:type="dcterms:W3CDTF">2011-05-04T10:13:07Z</dcterms:modified>
  <cp:revision>15</cp:revision>
  <dc:subject/>
  <dc:title>Protein Synthesis</dc:title>
</cp:coreProperties>
</file>